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BE81-158B-4703-911F-30D8E7A1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EDF6-A7CB-4AAB-A2A9-EFB89343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87B8-9814-405F-B7F4-3559FE67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09ED-AB65-470B-82E5-3C9C2A72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83AB-CE51-4F06-9595-5E892BB1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074A-05E7-4BA1-B66B-1ED05F4D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877C-FA5B-4534-B548-B40BDB93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00F8-BBDF-482D-9C32-C3F8E9F2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EE13-6B45-4A05-8CFE-D1655C5A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CCF4-E47F-443E-AADA-EC0A5889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E251-ED86-4E74-A1F9-C5F2691F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7B03-65A8-460C-8072-BC8B1E9B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20D2-3E79-479A-BC3D-83ED8CA92CF4}" type="slidenum">
              <a:rPr b="0" lang="nb-N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acIC3zFtAI&amp;feature=related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ff"/>
                </a:solidFill>
                <a:latin typeface="Arial"/>
              </a:rPr>
              <a:t>Bollywood Nex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7" descr="Rough-Guide-to-Bollywood_LO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ff"/>
                </a:solidFill>
                <a:latin typeface="Arial"/>
              </a:rPr>
              <a:t>Chan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Bollywood is chan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Bollywood movies are becoming more like Hollywood mov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Film kisses used to be banned – now they’re comm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Naked skin is also comm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7" descr="bollywood"/>
          <p:cNvPicPr/>
          <p:nvPr/>
        </p:nvPicPr>
        <p:blipFill>
          <a:blip r:embed="rId1"/>
          <a:stretch/>
        </p:blipFill>
        <p:spPr>
          <a:xfrm>
            <a:off x="5248440" y="1838160"/>
            <a:ext cx="28382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ffffff"/>
                </a:solidFill>
                <a:latin typeface="Arial"/>
              </a:rPr>
              <a:t>What’s the Future for Bollywo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The future looks bright for Bollywo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Big US film companies such as Warner Bros and Twentieth Century Fox are setting up offices in In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YouTube - The Queen of Bollywood -Kajol Devgan part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8" descr="2008_0502_bollywood"/>
          <p:cNvPicPr/>
          <p:nvPr/>
        </p:nvPicPr>
        <p:blipFill>
          <a:blip r:embed="rId2"/>
          <a:stretch/>
        </p:blipFill>
        <p:spPr>
          <a:xfrm>
            <a:off x="4648320" y="1996920"/>
            <a:ext cx="403848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ff"/>
                </a:solidFill>
                <a:latin typeface="Arial"/>
              </a:rPr>
              <a:t>By Nina Sandström Angels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Selbu videregående sk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ff"/>
                </a:solidFill>
                <a:latin typeface="Arial"/>
              </a:rPr>
              <a:t>Competence Aims</a:t>
            </a:r>
            <a:br>
              <a:rPr sz="4400"/>
            </a:b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International Engli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ulture, society and lit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aims of the studies are to enable pupils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analyse and assess the role of some English-language media in international socie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b-NO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lassholder for innhold 7" descr="dl.jpg"/>
          <p:cNvPicPr/>
          <p:nvPr/>
        </p:nvPicPr>
        <p:blipFill>
          <a:blip r:embed="rId1"/>
          <a:stretch/>
        </p:blipFill>
        <p:spPr>
          <a:xfrm>
            <a:off x="4648320" y="1523880"/>
            <a:ext cx="40417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ff"/>
                </a:solidFill>
                <a:latin typeface="Arial"/>
              </a:rPr>
              <a:t>Where is Bollywoo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Arial"/>
              </a:rPr>
              <a:t>Bollywood is located in Mumbai in Ind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7" descr="india_country_map"/>
          <p:cNvPicPr/>
          <p:nvPr/>
        </p:nvPicPr>
        <p:blipFill>
          <a:blip r:embed="rId1"/>
          <a:stretch/>
        </p:blipFill>
        <p:spPr>
          <a:xfrm>
            <a:off x="4648320" y="169056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ff"/>
                </a:solidFill>
                <a:latin typeface="Arial"/>
              </a:rPr>
              <a:t>What is Bollywoo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Indian film indu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Produces films in the Hindi langu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In 2006 Bollywood sold a million more tickets internationally than Hollywo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India is the largest movie-producing country in the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Produces approximately 900 films ann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Indian movies are increasing in popularity  -  mostly seen by Indians in India and abr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7" descr="bollywood460"/>
          <p:cNvPicPr/>
          <p:nvPr/>
        </p:nvPicPr>
        <p:blipFill>
          <a:blip r:embed="rId1"/>
          <a:stretch/>
        </p:blipFill>
        <p:spPr>
          <a:xfrm>
            <a:off x="4648320" y="2651040"/>
            <a:ext cx="403848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ff"/>
                </a:solidFill>
                <a:latin typeface="Arial"/>
              </a:rPr>
              <a:t>The Bollywood Fil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Usually musical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most films have at least one song-and-dance nu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Films often last for 3 hours or mo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Indian audiences want it all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songs and da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love stor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comed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thrills and excitemen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The plots are often melodramatic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They often contain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star-crossed lov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corrupt politici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twins separated at bi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conniving villa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angry par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courtesans with hearts of go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dramatic reversals of fortu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convenient coincidenc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BOL_858_1175516279"/>
          <p:cNvPicPr/>
          <p:nvPr/>
        </p:nvPicPr>
        <p:blipFill>
          <a:blip r:embed="rId1"/>
          <a:stretch/>
        </p:blipFill>
        <p:spPr>
          <a:xfrm>
            <a:off x="4648320" y="2968560"/>
            <a:ext cx="403848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ffffff"/>
                </a:solidFill>
                <a:latin typeface="Arial"/>
              </a:rPr>
              <a:t>Singing and Danc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Singing and dancing are important ingredients in Bollywood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They comment on the action taking pl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A song is well-integrated into the plot so that a character has a reason to 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Songs often tell about characters’ thoughts or foreshadow events to come in the fil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The event is usually two characters falling in lo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9" descr="aishwarya-rai-bollywood-star-aishwarya-rai-and-abhishekh-bachan-announce-their-engagement-0GrKHc"/>
          <p:cNvPicPr/>
          <p:nvPr/>
        </p:nvPicPr>
        <p:blipFill>
          <a:blip r:embed="rId1"/>
          <a:stretch/>
        </p:blipFill>
        <p:spPr>
          <a:xfrm>
            <a:off x="4648320" y="2192400"/>
            <a:ext cx="403848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ffffff"/>
                </a:solidFill>
                <a:latin typeface="Arial"/>
              </a:rPr>
              <a:t>The ”Item Girl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Most Bollywood films have </a:t>
            </a:r>
            <a:r>
              <a:rPr b="0" i="1" lang="nb-NO" sz="2000" spc="-1" strike="noStrike">
                <a:solidFill>
                  <a:srgbClr val="ffffff"/>
                </a:solidFill>
                <a:latin typeface="Arial"/>
              </a:rPr>
              <a:t>item nu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That is a beautiful girl who is not part of the plot or cast of the fil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She sings and d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Usually she wears few clothes so that her lovely body is vi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6" descr="miss-bollywood-shilpa-shetty"/>
          <p:cNvPicPr/>
          <p:nvPr/>
        </p:nvPicPr>
        <p:blipFill>
          <a:blip r:embed="rId1"/>
          <a:stretch/>
        </p:blipFill>
        <p:spPr>
          <a:xfrm>
            <a:off x="4648320" y="2179800"/>
            <a:ext cx="403848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ff"/>
                </a:solidFill>
                <a:latin typeface="Arial"/>
              </a:rPr>
              <a:t>What Is Bollywood Danc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Modern Indian danc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A combination of classical Indian dance + folk danc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It's fun and very expre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There's a lot of deep meaning behind music in the fil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This meaning is expressed through the graceful movements of the body. </a:t>
            </a:r>
            <a:br>
              <a:rPr sz="2000"/>
            </a:b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shilpashetty_miss_bollywood"/>
          <p:cNvPicPr/>
          <p:nvPr/>
        </p:nvPicPr>
        <p:blipFill>
          <a:blip r:embed="rId1"/>
          <a:stretch/>
        </p:blipFill>
        <p:spPr>
          <a:xfrm>
            <a:off x="5381640" y="2509920"/>
            <a:ext cx="257184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ooking for Stard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Bollywood attracts thousands of aspiring actors and actresses, all hoping for a break in the indu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Models and beauty contestants, television actors, theatre actors and even common people come to Mumbai with the hope and dream of becoming a st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Just as in Hollywood very few succeed</a:t>
            </a:r>
            <a:br>
              <a:rPr sz="2000"/>
            </a:br>
            <a:br>
              <a:rPr sz="2000"/>
            </a:b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7" descr="big_2008_calendar01"/>
          <p:cNvPicPr/>
          <p:nvPr/>
        </p:nvPicPr>
        <p:blipFill>
          <a:blip r:embed="rId1"/>
          <a:stretch/>
        </p:blipFill>
        <p:spPr>
          <a:xfrm>
            <a:off x="4648320" y="2138400"/>
            <a:ext cx="40384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na</cp:lastModifiedBy>
  <dcterms:modified xsi:type="dcterms:W3CDTF">2009-08-27T19:35:3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